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B92-83DD-437B-ABD0-3309DFE5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9A6-EBF9-4315-98FA-1500BDE7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FFA-ED44-4CD8-95DE-B1407961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685-E980-496A-9490-6C348466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FBD-2E3B-49BC-B1B5-0B769CD3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C9D-81CB-412B-AF99-A1263E66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C5D-9288-49DD-AC31-DAB7E354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D5D-1A7D-498C-BDCA-29A0B03B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AF1-3FF8-46FB-9E97-67699D66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DAA-EA29-4D27-A394-95D60BC0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B31-9EA7-4CCB-936D-EC17B1D2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0EF-34A1-4C1C-A28F-27157FA1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4A64-ACFD-4998-AB93-D8271BDE7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6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en-US" sz="6600" spc="-1" strike="noStrike">
                <a:solidFill>
                  <a:srgbClr val="cc3300"/>
                </a:solidFill>
                <a:latin typeface="BellGothic Blk BT"/>
              </a:rPr>
              <a:t>Analogi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et2_th.jpg"/>
          <p:cNvPicPr/>
          <p:nvPr/>
        </p:nvPicPr>
        <p:blipFill>
          <a:blip r:embed="rId1"/>
          <a:stretch/>
        </p:blipFill>
        <p:spPr>
          <a:xfrm>
            <a:off x="1143000" y="762120"/>
            <a:ext cx="2038320" cy="1533240"/>
          </a:xfrm>
          <a:prstGeom prst="rect">
            <a:avLst/>
          </a:prstGeom>
          <a:ln w="0">
            <a:noFill/>
          </a:ln>
        </p:spPr>
      </p:pic>
      <p:sp>
        <p:nvSpPr>
          <p:cNvPr id="43" name="Line 6"/>
          <p:cNvSpPr/>
          <p:nvPr/>
        </p:nvSpPr>
        <p:spPr>
          <a:xfrm>
            <a:off x="762120" y="411480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 flipV="1">
            <a:off x="3505320" y="2437920"/>
            <a:ext cx="114300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5867280" y="415296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4648320" y="2438280"/>
            <a:ext cx="121896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114800" y="3352680"/>
            <a:ext cx="106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614520" y="3200400"/>
            <a:ext cx="30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mm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1157040" y="434340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r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6404040" y="327672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ot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867280" y="4343400"/>
            <a:ext cx="274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0"/>
          <p:cNvSpPr/>
          <p:nvPr/>
        </p:nvSpPr>
        <p:spPr>
          <a:xfrm>
            <a:off x="3962520" y="2666880"/>
            <a:ext cx="106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34680" y="2438280"/>
            <a:ext cx="129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o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685800" y="36576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im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6065280" y="2514600"/>
            <a:ext cx="121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638680" y="3657600"/>
            <a:ext cx="274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60948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 flipV="1">
            <a:off x="3352680" y="1790280"/>
            <a:ext cx="114300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495680" y="1790640"/>
            <a:ext cx="121932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571500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0"/>
          <p:cNvSpPr/>
          <p:nvPr/>
        </p:nvSpPr>
        <p:spPr>
          <a:xfrm>
            <a:off x="3962520" y="2666880"/>
            <a:ext cx="106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33960" y="2438280"/>
            <a:ext cx="206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pp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85800" y="36576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pple ju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6033960" y="2514600"/>
            <a:ext cx="253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ran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943600" y="3657600"/>
            <a:ext cx="274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>
            <a:off x="60948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3352680" y="1790280"/>
            <a:ext cx="114300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9"/>
          <p:cNvSpPr/>
          <p:nvPr/>
        </p:nvSpPr>
        <p:spPr>
          <a:xfrm>
            <a:off x="4495680" y="1790640"/>
            <a:ext cx="121932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>
            <a:off x="571500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0"/>
          <p:cNvSpPr/>
          <p:nvPr/>
        </p:nvSpPr>
        <p:spPr>
          <a:xfrm>
            <a:off x="3962520" y="2666880"/>
            <a:ext cx="106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26760" y="2438280"/>
            <a:ext cx="175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685800" y="36576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181560" y="2514600"/>
            <a:ext cx="15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943600" y="3657600"/>
            <a:ext cx="274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60948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3352680" y="1790280"/>
            <a:ext cx="114300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>
            <a:off x="4495680" y="1790640"/>
            <a:ext cx="121932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8"/>
          <p:cNvSpPr/>
          <p:nvPr/>
        </p:nvSpPr>
        <p:spPr>
          <a:xfrm>
            <a:off x="571500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0"/>
          <p:cNvSpPr/>
          <p:nvPr/>
        </p:nvSpPr>
        <p:spPr>
          <a:xfrm>
            <a:off x="3962520" y="2666880"/>
            <a:ext cx="106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714240" y="2438280"/>
            <a:ext cx="189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n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685800" y="36576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6106680" y="2514600"/>
            <a:ext cx="111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943600" y="3657600"/>
            <a:ext cx="274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>
            <a:off x="60948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3352680" y="1790280"/>
            <a:ext cx="114300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"/>
          <p:cNvSpPr/>
          <p:nvPr/>
        </p:nvSpPr>
        <p:spPr>
          <a:xfrm>
            <a:off x="4495680" y="1790640"/>
            <a:ext cx="121932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71500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llGothic Blk BT"/>
              </a:rPr>
              <a:t>Determine Mea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letter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d a drawing of Gloria on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BD04904_"/>
          <p:cNvPicPr/>
          <p:nvPr/>
        </p:nvPicPr>
        <p:blipFill>
          <a:blip r:embed="rId1"/>
          <a:stretch/>
        </p:blipFill>
        <p:spPr>
          <a:xfrm>
            <a:off x="4648320" y="2435400"/>
            <a:ext cx="3809880" cy="274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BD05090_"/>
          <p:cNvPicPr/>
          <p:nvPr/>
        </p:nvPicPr>
        <p:blipFill>
          <a:blip r:embed="rId2"/>
          <a:stretch/>
        </p:blipFill>
        <p:spPr>
          <a:xfrm>
            <a:off x="914400" y="4033800"/>
            <a:ext cx="3124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llGothic Blk BT"/>
              </a:rPr>
              <a:t>Multiple Mean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(p. 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d e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ful h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lip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(p. 23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es his or her foo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ittle pieces of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80060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all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( p. 2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s on th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f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0:00:40Z</dcterms:created>
  <dc:creator>KSD</dc:creator>
  <dc:description/>
  <dc:language>en-US</dc:language>
  <cp:lastModifiedBy>bonnie.franklin</cp:lastModifiedBy>
  <dcterms:modified xsi:type="dcterms:W3CDTF">2011-01-20T03:29:45Z</dcterms:modified>
  <cp:revision>7</cp:revision>
  <dc:subject/>
  <dc:title>Word Relationships</dc:title>
</cp:coreProperties>
</file>